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11C-7524-420E-80A8-0F8031E5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CE8-F9BF-48F2-B5B1-017D330D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D36-4A58-476F-BF44-EF568C2C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427-B6DF-4009-9E9B-ABD016B4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A86-99E8-480A-B75D-FCC4FC68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CB3-1E04-4F0D-AB03-32029B7F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B2C-F873-4C00-B150-7A8B5482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516-D309-41B2-884E-574E42C8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FA1-48EA-491C-A030-37DA1E53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CEF-DB4C-49D4-9DD4-0D1C9F6F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794-EAFB-452B-AF6E-DCB670DC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A58-42AC-4227-89EE-F8D45A5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3741-638E-43AB-B230-A790E1B26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 llamo ________ Clase 701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a fecha es el 26 &amp; 28 de mayo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82: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hablamos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z una lista de los países que hablan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6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1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7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2)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3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8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3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4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9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4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5)             10)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5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merica del Norte, Central y el Caribe Hispano-habl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5537160"/>
          </a:xfrm>
          <a:prstGeom prst="rect">
            <a:avLst/>
          </a:prstGeom>
          <a:ln w="0">
            <a:noFill/>
          </a:ln>
        </p:spPr>
      </p:pic>
      <p:sp>
        <p:nvSpPr>
          <p:cNvPr id="45" name="Line 5"/>
          <p:cNvSpPr/>
          <p:nvPr/>
        </p:nvSpPr>
        <p:spPr>
          <a:xfrm flipH="1">
            <a:off x="1143000" y="3733920"/>
            <a:ext cx="838080" cy="990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 flipH="1">
            <a:off x="3048120" y="4952880"/>
            <a:ext cx="1295280" cy="228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H="1">
            <a:off x="3885840" y="533412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H="1" flipV="1">
            <a:off x="4723920" y="3276720"/>
            <a:ext cx="83844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5105160" y="4648320"/>
            <a:ext cx="15228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5333760" y="5181480"/>
            <a:ext cx="68580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 flipH="1">
            <a:off x="4648320" y="6095880"/>
            <a:ext cx="76176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 flipH="1">
            <a:off x="6171840" y="586728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7543800" y="28954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8229600" y="4572000"/>
            <a:ext cx="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1"/>
          <p:cNvSpPr/>
          <p:nvPr/>
        </p:nvSpPr>
        <p:spPr>
          <a:xfrm>
            <a:off x="3962520" y="6553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Costa Ric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94560" cy="5410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 rot="1326600">
            <a:off x="4522320" y="1531440"/>
            <a:ext cx="259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343400" y="563868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914400" y="3886200"/>
            <a:ext cx="2590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 rot="615000">
            <a:off x="1523520" y="19494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029200" y="5257800"/>
            <a:ext cx="119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778200" y="16765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886200" y="37339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092400" y="2041560"/>
            <a:ext cx="64152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4997520" y="3184560"/>
            <a:ext cx="64116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800600" y="2438280"/>
            <a:ext cx="641520" cy="398520"/>
          </a:xfrm>
          <a:prstGeom prst="rect">
            <a:avLst/>
          </a:prstGeom>
          <a:solidFill>
            <a:srgbClr val="386a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854520" y="4937040"/>
            <a:ext cx="641160" cy="24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2819520" y="2971800"/>
            <a:ext cx="488880" cy="24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 rot="1233000">
            <a:off x="4495680" y="4281120"/>
            <a:ext cx="457200" cy="214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 flipH="1">
            <a:off x="22096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>
            <a:off x="2133360" y="25909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23623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4572000" y="388620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42670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2819520" y="441972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3809880" y="5943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4800600" y="5181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4800600" y="44197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3808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99"/>
                </a:solidFill>
                <a:latin typeface="Arial"/>
              </a:rPr>
              <a:t>Ame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219560" y="990720"/>
            <a:ext cx="4848120" cy="5438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057400" y="3809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048120" y="4191120"/>
            <a:ext cx="335268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981080" cy="1611360"/>
          </a:xfrm>
          <a:prstGeom prst="rect">
            <a:avLst/>
          </a:prstGeom>
          <a:ln w="0">
            <a:noFill/>
          </a:ln>
        </p:spPr>
      </p:pic>
      <p:sp>
        <p:nvSpPr>
          <p:cNvPr id="84" name="Line 9"/>
          <p:cNvSpPr/>
          <p:nvPr/>
        </p:nvSpPr>
        <p:spPr>
          <a:xfrm flipH="1">
            <a:off x="5181120" y="365760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81320" y="2282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 flipH="1" flipV="1">
            <a:off x="5105520" y="83772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 flipV="1">
            <a:off x="5638680" y="837720"/>
            <a:ext cx="5335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ANd9GcT5OMGMdHD8OjD-beoWYG4vD79vMyeELChzp_CsQEz-0jnmEPLc"/>
          <p:cNvPicPr/>
          <p:nvPr/>
        </p:nvPicPr>
        <p:blipFill>
          <a:blip r:embed="rId3"/>
          <a:stretch/>
        </p:blipFill>
        <p:spPr>
          <a:xfrm>
            <a:off x="762120" y="914400"/>
            <a:ext cx="2971800" cy="2854440"/>
          </a:xfrm>
          <a:prstGeom prst="rect">
            <a:avLst/>
          </a:prstGeom>
          <a:ln w="0">
            <a:noFill/>
          </a:ln>
        </p:spPr>
      </p:pic>
      <p:sp>
        <p:nvSpPr>
          <p:cNvPr id="89" name="Line 18"/>
          <p:cNvSpPr/>
          <p:nvPr/>
        </p:nvSpPr>
        <p:spPr>
          <a:xfrm flipH="1">
            <a:off x="685440" y="3124080"/>
            <a:ext cx="114300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0" y="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8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e las capitales de los 21 paises hispano-hab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27:04Z</dcterms:created>
  <dc:creator>Helen Zumaeta</dc:creator>
  <dc:description/>
  <dc:language>en-US</dc:language>
  <cp:lastModifiedBy>Helen Zumaeta</cp:lastModifiedBy>
  <cp:lastPrinted>2015-05-26T15:11:04Z</cp:lastPrinted>
  <dcterms:modified xsi:type="dcterms:W3CDTF">2015-05-28T19:26:02Z</dcterms:modified>
  <cp:revision>13</cp:revision>
  <dc:subject/>
  <dc:title>America del norte, central y el Caribe hispano</dc:title>
</cp:coreProperties>
</file>